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SPKGLISS.WAV" ContentType="audio/x-wav"/>
  <Override PartName="/ppt/media/image9.jpeg" ContentType="image/jpeg"/>
  <Override PartName="/ppt/media/image14.gif" ContentType="image/gif"/>
  <Override PartName="/ppt/media/image13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15.gif" ContentType="image/gif"/>
  <Override PartName="/ppt/media/image6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P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44F609-B87D-4682-8DBE-BED6E90B0020}" type="slidenum"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CAF-E75F-49B3-96D1-2B11C3F6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27C-EEC8-4C9B-94FD-7B5AA17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9CE-FF02-4B53-87CF-28B8DC34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D15-02BD-490D-9D54-118B9FA5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9E5-7210-4964-89CF-E0DF2D05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353-9B8A-4DFB-9E56-CCDB77E3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F08-D736-43C8-BBA3-8D380F11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0C1-A643-4E9B-AFEC-A9424B40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D79-758D-48AA-AC64-3E69215F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91E-979A-4C6B-931C-3B11939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4BF-CBBF-4476-BDB5-5AFC21F5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589-6047-426D-84E9-2043EAB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6196-73A6-44D5-AA49-D61CD5CA1537}" type="slidenum">
              <a:rPr b="0" lang="es-P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endshow"/>
          </p:cNvPr>
          <p:cNvSpPr/>
          <p:nvPr/>
        </p:nvSpPr>
        <p:spPr>
          <a:xfrm>
            <a:off x="746748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400" spc="-1" strike="noStrike">
                <a:solidFill>
                  <a:srgbClr val="000000"/>
                </a:solidFill>
                <a:latin typeface="Times New Roman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previousslide"/>
          </p:cNvPr>
          <p:cNvSpPr/>
          <p:nvPr/>
        </p:nvSpPr>
        <p:spPr>
          <a:xfrm>
            <a:off x="5638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previousslide"/>
          </p:cNvPr>
          <p:cNvSpPr/>
          <p:nvPr/>
        </p:nvSpPr>
        <p:spPr>
          <a:xfrm>
            <a:off x="6248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38080" y="3657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Biotecnología Marina y Administr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038480" y="4648320"/>
            <a:ext cx="4494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landa Ramos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rea Arias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43000" y="3049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into Universitario Maya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6858000" y="6477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59" h="21600">
                <a:moveTo>
                  <a:pt x="36173" y="3794"/>
                </a:moveTo>
                <a:lnTo>
                  <a:pt x="50186" y="10800"/>
                </a:lnTo>
                <a:lnTo>
                  <a:pt x="36173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estudiantes construyen su propio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200400" y="64771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ci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41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7" descr="woman_teacher_blackboard_md_wht"/>
          <p:cNvPicPr/>
          <p:nvPr/>
        </p:nvPicPr>
        <p:blipFill>
          <a:blip r:embed="rId1"/>
          <a:stretch/>
        </p:blipFill>
        <p:spPr>
          <a:xfrm>
            <a:off x="5915160" y="3094200"/>
            <a:ext cx="2184120" cy="182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act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j0288978"/>
          <p:cNvPicPr/>
          <p:nvPr/>
        </p:nvPicPr>
        <p:blipFill>
          <a:blip r:embed="rId1"/>
          <a:stretch/>
        </p:blipFill>
        <p:spPr>
          <a:xfrm>
            <a:off x="5345280" y="4334040"/>
            <a:ext cx="2643120" cy="1395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7565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arlie_reading_to_grandson_md_wht"/>
          <p:cNvPicPr/>
          <p:nvPr/>
        </p:nvPicPr>
        <p:blipFill>
          <a:blip r:embed="rId2"/>
          <a:stretch/>
        </p:blipFill>
        <p:spPr>
          <a:xfrm>
            <a:off x="6419880" y="2505240"/>
            <a:ext cx="2014560" cy="1630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SPKGLI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ias con los estudi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a22430"/>
          <p:cNvPicPr/>
          <p:nvPr/>
        </p:nvPicPr>
        <p:blipFill>
          <a:blip r:embed="rId1"/>
          <a:stretch/>
        </p:blipFill>
        <p:spPr>
          <a:xfrm>
            <a:off x="457200" y="1752480"/>
            <a:ext cx="2971800" cy="197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arfield gang"/>
          <p:cNvPicPr/>
          <p:nvPr/>
        </p:nvPicPr>
        <p:blipFill>
          <a:blip r:embed="rId2"/>
          <a:stretch/>
        </p:blipFill>
        <p:spPr>
          <a:xfrm>
            <a:off x="3505320" y="2209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111716-002"/>
          <p:cNvPicPr/>
          <p:nvPr/>
        </p:nvPicPr>
        <p:blipFill>
          <a:blip r:embed="rId3"/>
          <a:stretch/>
        </p:blipFill>
        <p:spPr>
          <a:xfrm>
            <a:off x="6400800" y="3505320"/>
            <a:ext cx="212076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533520" y="3962520"/>
            <a:ext cx="48765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 encanta inv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 el día mas feliz de mi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creí que podí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os nos vimos presntando todos pudimos wa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SPKGLI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200135310-004"/>
          <p:cNvPicPr/>
          <p:nvPr/>
        </p:nvPicPr>
        <p:blipFill>
          <a:blip r:embed="rId1"/>
          <a:stretch/>
        </p:blipFill>
        <p:spPr>
          <a:xfrm>
            <a:off x="2514600" y="1447920"/>
            <a:ext cx="2558880" cy="2590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j0278804"/>
          <p:cNvPicPr/>
          <p:nvPr/>
        </p:nvPicPr>
        <p:blipFill>
          <a:blip r:embed="rId1"/>
          <a:stretch/>
        </p:blipFill>
        <p:spPr>
          <a:xfrm>
            <a:off x="6670800" y="3863880"/>
            <a:ext cx="121104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6135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graduation boy"/>
          <p:cNvPicPr/>
          <p:nvPr/>
        </p:nvPicPr>
        <p:blipFill>
          <a:blip r:embed="rId2"/>
          <a:stretch/>
        </p:blipFill>
        <p:spPr>
          <a:xfrm>
            <a:off x="7162920" y="2286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bkmchinese001-FFCC00"/>
          <p:cNvPicPr/>
          <p:nvPr/>
        </p:nvPicPr>
        <p:blipFill>
          <a:blip r:embed="rId3"/>
          <a:stretch/>
        </p:blipFill>
        <p:spPr>
          <a:xfrm>
            <a:off x="49528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4" name="SPKGLI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ubway"/>
              </a:rPr>
              <a:t>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g00052_"/>
          <p:cNvPicPr/>
          <p:nvPr/>
        </p:nvPicPr>
        <p:blipFill>
          <a:blip r:embed="rId1"/>
          <a:stretch/>
        </p:blipFill>
        <p:spPr>
          <a:xfrm>
            <a:off x="2438280" y="1752480"/>
            <a:ext cx="5105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07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Zitzewitz Paul W., Ph.D. (2004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ísica Principios y Problema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Gómez de Orengo Nancy.(1997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Descubrimiento Ciencia Integrada 8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urphy, James, Zitzeruitz, Paul, Max, Hallon, James.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(1898).Física: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ciencia para tod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Rathj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Microsoft Corporation. (1993-2003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Enciclopedia Encart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ullcart_library_book_open_md_wht"/>
          <p:cNvPicPr/>
          <p:nvPr/>
        </p:nvPicPr>
        <p:blipFill>
          <a:blip r:embed="rId1"/>
          <a:stretch/>
        </p:blipFill>
        <p:spPr>
          <a:xfrm>
            <a:off x="5830920" y="34862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our_butterfly_hg"/>
          <p:cNvPicPr/>
          <p:nvPr/>
        </p:nvPicPr>
        <p:blipFill>
          <a:blip r:embed="rId1"/>
          <a:stretch/>
        </p:blipFill>
        <p:spPr>
          <a:xfrm>
            <a:off x="2824200" y="22939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iotecnología Marina y Administ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e la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ducción de Peces Comerciales a partir de la identificación de sus larvas mediante 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0176891"/>
          <p:cNvPicPr/>
          <p:nvPr/>
        </p:nvPicPr>
        <p:blipFill>
          <a:blip r:embed="rId1"/>
          <a:stretch/>
        </p:blipFill>
        <p:spPr>
          <a:xfrm>
            <a:off x="6324480" y="1752480"/>
            <a:ext cx="2316240" cy="3517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e la 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97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terminar la lección el estu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án especies de peces en etapa haciendo u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encias de una porción de adn mitocondrial de larvas y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ran las secuencias para determiar cual larva corresponde al pez 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án en forma operacional los conceptos dna mitocondrial, pcr, secu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vivero ideal para la producción en masa de pe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plan o modelo comercial de la venta y producción de peces a gran e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ejaran presupuesto y realizarán toma de deciciones al formar una nuev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organizadores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aran anunci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afficcop_goleft_hw"/>
          <p:cNvPicPr/>
          <p:nvPr/>
        </p:nvPicPr>
        <p:blipFill>
          <a:blip r:embed="rId1"/>
          <a:stretch/>
        </p:blipFill>
        <p:spPr>
          <a:xfrm>
            <a:off x="4572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y Dest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os procesos y destrez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definiciones oper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Uso de relaciones de 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Predi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Interpret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diversas fuent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on de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l mét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ión so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de enseñ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ise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2:40:53Z</dcterms:created>
  <dc:creator>Yolanda Ramos, Elba Sepulveda y Rosa Olivencia</dc:creator>
  <dc:description/>
  <dc:language>en-US</dc:language>
  <cp:lastModifiedBy>RomaK</cp:lastModifiedBy>
  <dcterms:modified xsi:type="dcterms:W3CDTF">2015-09-04T10:41:28Z</dcterms:modified>
  <cp:revision>64</cp:revision>
  <dc:subject>Actividad de Logros</dc:subject>
  <dc:title>PlanesAlAC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5 febrero de 2005</vt:lpwstr>
  </property>
  <property fmtid="{D5CDD505-2E9C-101B-9397-08002B2CF9AE}" pid="3" name="Project">
    <vt:lpwstr>Plantilla de planes AlACiMa</vt:lpwstr>
  </property>
</Properties>
</file>